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D10E-32CB-452C-9F00-9C5F860C6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F81-DA57-40C2-8A50-0758CF28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21B-FC4E-47D6-A5D4-33B3EB620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901D-1FC4-4DA9-8E40-33EF8491A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A8AE-3A02-4AAB-9D36-DDFCA3C03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C757-0C8D-4351-83B7-764EDE32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19E9-E864-4073-9400-B41329610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8F7F-B0CB-420E-AC13-6217B9C4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6B80-BE4D-4FF2-8CF4-DA1B94CA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1DEE-80A9-4388-9FB9-53C196C4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5F24-B225-46B1-AA12-76BFA706F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98A7-65DE-435E-B65A-ABD8AA85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C18DC-3A1E-4BEF-92C2-78A9AC72A0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900" spc="-1" strike="noStrike">
                <a:solidFill>
                  <a:srgbClr val="009999"/>
                </a:solidFill>
                <a:latin typeface="Courier New"/>
              </a:rPr>
              <a:t>First Wave Introduction</a:t>
            </a:r>
            <a:endParaRPr b="0" lang="en-US" sz="5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360" y="53341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900" spc="-1" strike="noStrike">
                <a:solidFill>
                  <a:srgbClr val="4e3fa3"/>
                </a:solidFill>
                <a:latin typeface="Chalkboard"/>
              </a:rPr>
              <a:t>By Alexus R. Micheal D. Teddy H.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90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How Many Kilometers southwest is Maldives from Sri Lank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)how many kilometers east is Kiribati between Hawaii and Fij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)Who Are In danger of becoming first victims of drowning of global warm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Party LET"/>
              </a:rPr>
              <a:t>The End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7:10:33Z</dcterms:created>
  <dc:creator>PA Department of Education</dc:creator>
  <dc:description/>
  <dc:language>en-US</dc:language>
  <cp:lastModifiedBy>PA Department of Education</cp:lastModifiedBy>
  <dcterms:modified xsi:type="dcterms:W3CDTF">2009-05-26T17:47:36Z</dcterms:modified>
  <cp:revision>2</cp:revision>
  <dc:subject/>
  <dc:title>First Wave Introduction</dc:title>
</cp:coreProperties>
</file>